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11.jpeg" ContentType="image/jpeg"/>
  <Override PartName="/ppt/media/image10.wmf" ContentType="image/x-wmf"/>
  <Override PartName="/ppt/media/image25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media/image31.wmf" ContentType="image/x-wmf"/>
  <Override PartName="/ppt/media/image6.wmf" ContentType="image/x-wmf"/>
  <Override PartName="/ppt/media/image19.jpeg" ContentType="image/jpeg"/>
  <Override PartName="/ppt/media/image33.jpeg" ContentType="image/jpeg"/>
  <Override PartName="/ppt/media/image3.gif" ContentType="image/gi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4369-9736-4155-A329-6D95A7D4F0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F7E-F8B6-4F67-AA7B-F12C5CDB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2D0-5BF8-44FA-9221-D501BA06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C3F-77B8-4B64-9B2E-12CA933C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0AA-926D-425F-BEB1-11F6DF67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C98-C112-4729-9DA6-9EC1F135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C40-3B53-4A7C-BCAF-8DC34CF3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017-EACA-4F37-B84F-560C6E81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774-B207-4810-88E1-5F7202C1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8D1-5CAD-4692-B749-7869876C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1D1-9B23-4257-9F8A-D6A9A75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492-7F0F-4EEB-A6F4-F812EDD1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D37-9B0D-4E5C-B2B5-442D3FCB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8B96-2EC0-4E19-8A98-826BCE886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hyperlink" Target="http://helpower.narod.ru/image/stockfish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Arial Unicode MS"/>
              </a:rPr>
              <a:t>1.Что такое     экономи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920" y="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Первые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11" descr="овца"/>
          <p:cNvPicPr/>
          <p:nvPr/>
        </p:nvPicPr>
        <p:blipFill>
          <a:blip r:embed="rId3"/>
          <a:stretch/>
        </p:blipFill>
        <p:spPr>
          <a:xfrm>
            <a:off x="179280" y="4076640"/>
            <a:ext cx="367200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6-tub.mail.ru/i?id=14116631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212544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7-tub.mail.ru/i?id=48172935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125360"/>
            <a:ext cx="21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Соль"/>
          <p:cNvPicPr/>
          <p:nvPr/>
        </p:nvPicPr>
        <p:blipFill>
          <a:blip r:embed="rId8"/>
          <a:srcRect l="0" t="15875" r="0" b="0"/>
          <a:stretch/>
        </p:blipFill>
        <p:spPr>
          <a:xfrm>
            <a:off x="4140360" y="4149720"/>
            <a:ext cx="181908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Picture 11" descr="Картинка 29 из 126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221000"/>
            <a:ext cx="2771640" cy="2170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3200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«Меховые» деньг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092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акушка"/>
          <p:cNvPicPr/>
          <p:nvPr/>
        </p:nvPicPr>
        <p:blipFill>
          <a:blip r:embed="rId1"/>
          <a:stretch/>
        </p:blipFill>
        <p:spPr>
          <a:xfrm>
            <a:off x="4572000" y="4152960"/>
            <a:ext cx="41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0-tub.mail.ru/i?id=55807633&amp;tov=0"/>
          <p:cNvPicPr/>
          <p:nvPr/>
        </p:nvPicPr>
        <p:blipFill>
          <a:blip r:embed="rId2"/>
          <a:stretch/>
        </p:blipFill>
        <p:spPr>
          <a:xfrm>
            <a:off x="395280" y="4000680"/>
            <a:ext cx="3308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39640" y="1125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кушки каур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еталлические деньги на Ру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латежный слиток гривна 'черниговского' типа. XII-XIII века. Увеличить"/>
          <p:cNvPicPr/>
          <p:nvPr/>
        </p:nvPicPr>
        <p:blipFill>
          <a:blip r:embed="rId1"/>
          <a:stretch/>
        </p:blipFill>
        <p:spPr>
          <a:xfrm>
            <a:off x="3203640" y="3805200"/>
            <a:ext cx="565128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овгородские рубли - слитки. XIV-XV века. Увеличить"/>
          <p:cNvPicPr/>
          <p:nvPr/>
        </p:nvPicPr>
        <p:blipFill>
          <a:blip r:embed="rId2"/>
          <a:stretch/>
        </p:blipFill>
        <p:spPr>
          <a:xfrm>
            <a:off x="0" y="907920"/>
            <a:ext cx="7272360" cy="23576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Картинка 46 из 205"/>
          <p:cNvPicPr/>
          <p:nvPr/>
        </p:nvPicPr>
        <p:blipFill>
          <a:blip r:embed="rId1"/>
          <a:stretch/>
        </p:blipFill>
        <p:spPr>
          <a:xfrm>
            <a:off x="5364000" y="3543480"/>
            <a:ext cx="3953160" cy="33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alery_1_7_2"/>
          <p:cNvPicPr/>
          <p:nvPr/>
        </p:nvPicPr>
        <p:blipFill>
          <a:blip r:embed="rId2"/>
          <a:stretch/>
        </p:blipFill>
        <p:spPr>
          <a:xfrm>
            <a:off x="0" y="162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892 год"/>
          <p:cNvPicPr/>
          <p:nvPr/>
        </p:nvPicPr>
        <p:blipFill>
          <a:blip r:embed="rId1"/>
          <a:stretch/>
        </p:blipFill>
        <p:spPr>
          <a:xfrm>
            <a:off x="179280" y="3359160"/>
            <a:ext cx="5832720" cy="349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!0 екат"/>
          <p:cNvPicPr/>
          <p:nvPr/>
        </p:nvPicPr>
        <p:blipFill>
          <a:blip r:embed="rId2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476360" y="260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мажные деньг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197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Функции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182582"/>
          <p:cNvPicPr/>
          <p:nvPr/>
        </p:nvPicPr>
        <p:blipFill>
          <a:blip r:embed="rId1"/>
          <a:stretch/>
        </p:blipFill>
        <p:spPr>
          <a:xfrm>
            <a:off x="4067280" y="3429000"/>
            <a:ext cx="4883040" cy="326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280" y="141300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. Доходы и расходы сем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E02622_"/>
          <p:cNvPicPr/>
          <p:nvPr/>
        </p:nvPicPr>
        <p:blipFill>
          <a:blip r:embed="rId1"/>
          <a:stretch/>
        </p:blipFill>
        <p:spPr>
          <a:xfrm>
            <a:off x="2340000" y="3517920"/>
            <a:ext cx="41180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Дох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сходы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меньшение суммы первоначальных средств течения отчётного пери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22764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G00013_"/>
          <p:cNvPicPr/>
          <p:nvPr/>
        </p:nvPicPr>
        <p:blipFill>
          <a:blip r:embed="rId1"/>
          <a:stretch/>
        </p:blipFill>
        <p:spPr>
          <a:xfrm>
            <a:off x="5435640" y="549360"/>
            <a:ext cx="3301920" cy="27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BS00508_"/>
          <p:cNvPicPr/>
          <p:nvPr/>
        </p:nvPicPr>
        <p:blipFill>
          <a:blip r:embed="rId2"/>
          <a:stretch/>
        </p:blipFill>
        <p:spPr>
          <a:xfrm>
            <a:off x="6443640" y="39337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Группы расхо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-108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правой колонке определения, соответствующим понятиям в лев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268280"/>
          <a:ext cx="8569440" cy="5211720"/>
        </p:xfrm>
        <a:graphic>
          <a:graphicData uri="http://schemas.openxmlformats.org/drawingml/2006/table">
            <a:tbl>
              <a:tblPr/>
              <a:tblGrid>
                <a:gridCol w="241200"/>
                <a:gridCol w="1865520"/>
                <a:gridCol w="303120"/>
                <a:gridCol w="615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оваров и услуг, которые Гражданин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могут приобрести в определённы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на свои номинальные д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, средства, обеспечения жизни люде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ьской деятельности,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между суммой денег от реализации товар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 и затратами на их производство, прод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жизни, при котором семья вынуждена сама производить всё или почти всё, что ей нужно для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д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вознаграждение, которое получает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емья за свой труд за определённый период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хозяйственная деятельность т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средств, ресурсов, процессов, используемых людьми для обеспечения жизни, удовлетворения потре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60"/>
          <p:cNvSpPr/>
          <p:nvPr/>
        </p:nvSpPr>
        <p:spPr>
          <a:xfrm>
            <a:off x="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3429000"/>
          <a:ext cx="8075520" cy="1184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" descr="PE01460_"/>
          <p:cNvPicPr/>
          <p:nvPr/>
        </p:nvPicPr>
        <p:blipFill>
          <a:blip r:embed="rId1"/>
          <a:stretch/>
        </p:blipFill>
        <p:spPr>
          <a:xfrm>
            <a:off x="6804000" y="4456080"/>
            <a:ext cx="1932120" cy="24019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60093"/>
                </a:solidFill>
                <a:latin typeface="Arial"/>
              </a:rPr>
              <a:t>3. СЕМЕЙНЫЙ БЮДЖ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02622_"/>
          <p:cNvPicPr/>
          <p:nvPr/>
        </p:nvPicPr>
        <p:blipFill>
          <a:blip r:embed="rId1"/>
          <a:stretch/>
        </p:blipFill>
        <p:spPr>
          <a:xfrm>
            <a:off x="2484360" y="3068640"/>
            <a:ext cx="4189320" cy="33973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Бюджет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4" descr="00007326"/>
          <p:cNvPicPr/>
          <p:nvPr/>
        </p:nvPicPr>
        <p:blipFill>
          <a:blip r:embed="rId1"/>
          <a:stretch/>
        </p:blipFill>
        <p:spPr>
          <a:xfrm>
            <a:off x="6081840" y="1989000"/>
            <a:ext cx="30621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ребительским бюдж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таблицу доходов и расходов человека, семьи за определенный период времени, чаще всего за месяц и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нимальный потребительский бюдж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D08911_"/>
          <p:cNvPicPr/>
          <p:nvPr/>
        </p:nvPicPr>
        <p:blipFill>
          <a:blip r:embed="rId1"/>
          <a:stretch/>
        </p:blipFill>
        <p:spPr>
          <a:xfrm>
            <a:off x="6934320" y="4778280"/>
            <a:ext cx="2209680" cy="2079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ан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лан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а и п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ет состав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зывает источники их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Найдите правильный отве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 Бюджет семьи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чите предло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дите в правой колонке определения, соответствующие понятиям в левой колонк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324000" y="1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Unicode MS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Аристотель"/>
          <p:cNvPicPr/>
          <p:nvPr/>
        </p:nvPicPr>
        <p:blipFill>
          <a:blip r:embed="rId1"/>
          <a:stretch/>
        </p:blipFill>
        <p:spPr>
          <a:xfrm>
            <a:off x="5245200" y="907920"/>
            <a:ext cx="389880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-13320"/>
            <a:ext cx="84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-684360" y="3517920"/>
            <a:ext cx="10434960" cy="3339720"/>
            <a:chOff x="-684360" y="3517920"/>
            <a:chExt cx="10434960" cy="3339720"/>
          </a:xfrm>
        </p:grpSpPr>
        <p:sp>
          <p:nvSpPr>
            <p:cNvPr id="63" name="AutoShape 5"/>
            <p:cNvSpPr/>
            <p:nvPr/>
          </p:nvSpPr>
          <p:spPr>
            <a:xfrm>
              <a:off x="-684360" y="3517920"/>
              <a:ext cx="1043496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449880" y="3963240"/>
              <a:ext cx="255888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891000" y="5299200"/>
              <a:ext cx="19681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шнее хозя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16000" y="5521680"/>
              <a:ext cx="236232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1283760" y="4185360"/>
              <a:ext cx="2166120" cy="11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1677960" y="4408560"/>
              <a:ext cx="177192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859120" y="57441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>
              <a:off x="2858760" y="59673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6008760" y="4185720"/>
              <a:ext cx="157536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 flipV="1">
              <a:off x="5812200" y="4631040"/>
              <a:ext cx="98496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A00417_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6026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165720"/>
            <a:ext cx="3816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436572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68360" y="3213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332000" y="1916280"/>
            <a:ext cx="2808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116000" y="69228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64000" y="333360"/>
            <a:ext cx="2514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300720" y="62064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076720" y="1989000"/>
            <a:ext cx="2667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6372360" y="328464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372360" y="4437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лищ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0803_1071_1190_vnvv"/>
          <p:cNvPicPr/>
          <p:nvPr/>
        </p:nvPicPr>
        <p:blipFill>
          <a:blip r:embed="rId2"/>
          <a:stretch/>
        </p:blipFill>
        <p:spPr>
          <a:xfrm>
            <a:off x="5508720" y="1413000"/>
            <a:ext cx="347508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LEGION</cp:lastModifiedBy>
  <dcterms:modified xsi:type="dcterms:W3CDTF">2016-01-04T08:19:12Z</dcterms:modified>
  <cp:revision>19</cp:revision>
  <dc:subject>Что такое экономика</dc:subject>
  <dc:title>1.Что такое экономика</dc:title>
</cp:coreProperties>
</file>